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laser.wav" ContentType="audio/x-wav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240-4F14-4D2A-8E70-C69BB9BD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58D-6761-472C-8898-BACACFF1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AC0-A5FA-4068-8905-482323CD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AF4-A875-4DBA-A335-C589D824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1F78-1273-421E-BDE5-864AC2B4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9A25-B74B-422C-B317-C413B893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0EF9-6FFA-4D14-BBD5-2262323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7BB9-C12F-435E-B887-7B4F0389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EE73-FF89-4B93-97D7-8339726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236C-3EC3-4A59-8CEB-D288C51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9C5-5E9F-4677-BBE7-39A5A1FD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2C6-1212-41F5-AF4D-8D66267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6B1A-9E28-4600-9250-5F13D235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5C74-993B-458F-BA64-A8E434D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254-552D-49DF-ACD9-7431F3D1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0A70-4873-4E67-929B-5D741D16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07F4-75DB-4983-B988-4B01B9AF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181-6D66-4E49-AE4D-E079C9B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25A-4BAC-4937-9290-30654FD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24F-875A-43CB-AD5C-D28F0DB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688-53AD-4284-86A8-91F4A11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3C4-403D-4E64-836B-3C34B3D2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857-D36D-4CD3-ACA4-9321D77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4AE-8E03-4E78-B058-3E30452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D962-E87F-49A3-834C-8618153DE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3D5-0426-4D75-ABE1-7A52D5544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Virtual%20Web%20Site/IN%20TOUCH.ht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Virtual%20Web%20Site/IN%20TOUCH.ht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irtual%20Web%20Site/IN%20TOUCH.htm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Virtual%20Web%20Site/ONCOURSE5%20Schedule.htm" TargetMode="External"/><Relationship Id="rId2" Type="http://schemas.openxmlformats.org/officeDocument/2006/relationships/hyperlink" Target="file:///Virtual%20Web%20Site/ONCOURSE5%20Assignment%206.htm" TargetMode="External"/><Relationship Id="rId3" Type="http://schemas.openxmlformats.org/officeDocument/2006/relationships/hyperlink" Target="file:///Virtual%20Web%20Site/ONCOURSE5%20Exam%202.htm" TargetMode="External"/><Relationship Id="rId4" Type="http://schemas.openxmlformats.org/officeDocument/2006/relationships/hyperlink" Target="file:///Virtual%20Web%20Site/Rules_for_Taking_Online_Exams.doc" TargetMode="External"/><Relationship Id="rId5" Type="http://schemas.openxmlformats.org/officeDocument/2006/relationships/hyperlink" Target="file:///Virtual%20Web%20Site/M118%20Exam_3B_Simplex_Method_and_Dual/index.htm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irtual%20Web%20Site/Welcome%20Announcement.htm" TargetMode="External"/><Relationship Id="rId2" Type="http://schemas.openxmlformats.org/officeDocument/2006/relationships/hyperlink" Target="file:///Virtual%20Web%20Site/M118_Online_Info.doc" TargetMode="External"/><Relationship Id="rId3" Type="http://schemas.openxmlformats.org/officeDocument/2006/relationships/hyperlink" Target="file:///Virtual%20Web%20Site/CONTACT%20INFORMATION.htm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Virtual%20Web%20Site/Graphing%20Calculator%20Help.htm" TargetMode="External"/><Relationship Id="rId2" Type="http://schemas.openxmlformats.org/officeDocument/2006/relationships/hyperlink" Target="file:///Virtual%20Web%20Site/The%20Math%20Page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Virtual%20Web%20Site/Grouping%20of%20Class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ITE MATH ONLINE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’S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R GRANDFATHER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RESPONDENCE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BD06790_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8129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ngest Name on Plan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Watchamacallit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286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743200" cy="1852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dy Part in the N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LINE SUP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FORU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Group members communicate with each other and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up a forum for each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a percentage of each week’s grade for forum contribu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and clear messages each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meaningful forum mess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LINE SUP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T – Maintain virtual office hours using online ch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able or discourage personal email.  Use mass emails only for very important ev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the use of communication through the group forums and shared work sp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LINE SUP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GROUP SPAC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 Encourage group members to share their problems and assignments in the group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 group spaces periodically to see if students are having particular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who frequently does and does not contribute to the group eff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LINE SUP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DROP BOX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Schedule drop boxes to appear and vanish o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students to routinely log in and adhere to an online schedule and regi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ACCEPT HOMEWORK OR EXAMS 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D06529_" descr=""/>
          <p:cNvPicPr/>
          <p:nvPr/>
        </p:nvPicPr>
        <p:blipFill>
          <a:blip r:embed="rId2"/>
          <a:stretch/>
        </p:blipFill>
        <p:spPr>
          <a:xfrm>
            <a:off x="4343400" y="4724280"/>
            <a:ext cx="18320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Exam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Rules for Online Ex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Online Ex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 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mon Misconceptions about Online Teaching and Lear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1337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aching an online class requires less time and organization than its classroom ver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657600"/>
            <a:ext cx="7467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TH: Since the classroom is open 24/7, teaching an online course is two to three times more time consuming than its classroom counter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mon Misconceptions about Online Teaching and Lear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209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s are more likely to cheat in online cour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971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YTH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tistically, students are no more likely to cheat in an online environment than in the typical classro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students are reluctant to jeopardize their gr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029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takes more effort to cheat in an online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5627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the perception that the instructor is on constant vigil 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mon Misconceptions about Online Teaching and Lear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0574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ze of an online class is unlim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7432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TH: Since time must be spent checking homework, forum messages, workspaces and exams, and in the virtual office … The ideal online class is between 15 and 20.  Thirty is (without assistance) about maxim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A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Y ONE OR BEFORE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d an email or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elcome announcem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laining the technological and mathematical requirements for success in the cou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M118 FINITE MATH ONLINE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CONTAC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YPICAL ONLINE RESOURC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INEAR ALGEBRA TOOL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INE MATRIX AND PIVOT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QUALITY FUNCTION GRAP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EBRA AND MATH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MATH 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MATRIX AND PIVOT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DVANTAGES OF ONLINE COURS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need to “Edit” the course o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teach from home, campus, on va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 can be offered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room not requ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can take the cou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s students for the modern work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ccept more responsibility for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"/>
              </a:rPr>
              <a:t>LERN</a:t>
            </a:r>
            <a:br>
              <a:rPr sz="4400"/>
            </a:br>
            <a:r>
              <a:rPr b="0" lang="en-US" sz="2800" spc="-1" strike="noStrike">
                <a:solidFill>
                  <a:srgbClr val="ffcc66"/>
                </a:solidFill>
                <a:latin typeface="comic"/>
              </a:rPr>
              <a:t>(LEARNING RESOURCES NETWORK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itannic Bold"/>
              </a:rPr>
              <a:t>Becom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TIFIED ONLINE I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267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crDLig"/>
              </a:rPr>
              <a:t>THANKS </a:t>
            </a:r>
            <a:r>
              <a:rPr b="1" lang="en-US" sz="3200" spc="-1" strike="noStrike">
                <a:solidFill>
                  <a:srgbClr val="000000"/>
                </a:solidFill>
                <a:latin typeface="TimeScrDLig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crDLig"/>
              </a:rPr>
              <a:t> YOUR TIME … GO M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A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students about their knowledg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 83 Graphing Calc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BS00559_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29844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A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an online syllab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a link to a text book assig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Appropriate support l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1148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TI ONLINE CALCULATOR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00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THE MATH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A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GROU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 the class up into groups of 4 to 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 “tech savy”individual in each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group members introduce themselves to one another in their foru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an “ice breake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98560" y="727200"/>
            <a:ext cx="710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eletype"/>
              </a:rPr>
              <a:t>So You Know Your Math and Calculator Skills …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AN00790_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06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t how well do you know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yriad Web"/>
              </a:rPr>
              <a:t>Candy Bars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895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ldie But Goo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2860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s a Number in the N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100%20Grand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23619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21:18:52Z</dcterms:created>
  <dc:creator>Dennis M. Wolf</dc:creator>
  <dc:description/>
  <dc:language>en-US</dc:language>
  <cp:lastModifiedBy>Dennis M. Wolf</cp:lastModifiedBy>
  <dcterms:modified xsi:type="dcterms:W3CDTF">2006-03-28T04:11:13Z</dcterms:modified>
  <cp:revision>29</cp:revision>
  <dc:subject/>
  <dc:title>FINITE MATH ONLINE …</dc:title>
</cp:coreProperties>
</file>